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BE8-E936-4ABC-B6BE-1F67DD5A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E91-E6B6-43BF-AAD8-1FD9A90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4B0-882A-4688-971E-0B85511B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278-DF33-465C-B552-72EF214C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0F2-C4CF-4D69-A0FA-3166D98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D15-57D4-4B5B-9078-A324B7ED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C82-E58A-401E-A25F-A72551E0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3E0-0A1C-445C-8F05-DA639A6D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167-812B-4726-8704-27FFE2B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15B-F08A-413A-8285-4373C5B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2A5-6B17-49C0-8FB3-6980D61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92F-71D7-4496-A533-4116744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C496-FC73-49F2-B18C-CCE4550A1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1 Z otroctva hrie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 otroctva hriechu, z poroby zlej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svoj pokoj sám mi do srdca vlej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s nádejou k tebe zr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U teba úkryt môžem vždy nájsť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v náručí tvojom mier je a slasť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s tebou mi kynie nebeská vlasť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de žiť raz večne chc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 údolia tieňov, márností, strát</a:t>
            </a:r>
            <a:br>
              <a:rPr sz="44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teb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teb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chcem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žiadnych sa skúšok nemusím báť,</a:t>
            </a:r>
            <a:br>
              <a:rPr sz="42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veď tebe veriť sm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Môžu prísť búrky, Záchranca mô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pri tebe nájdem prístav vždy svoj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len ty si mojej istoty zdroj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 tebe sa privin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V trápení, smútku, pod ťarchou vín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 k tebe chcem;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vráť srdcu radosť, bremeno sním,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že miluješ ma, viem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a všetky žiale útechu máš,</a:t>
            </a:r>
            <a:br>
              <a:rPr sz="4400"/>
            </a:br>
            <a:r>
              <a:rPr b="1" lang="sk-SK" sz="4300" spc="-1" strike="noStrike">
                <a:solidFill>
                  <a:srgbClr val="66ff33"/>
                </a:solidFill>
                <a:latin typeface="Arial"/>
              </a:rPr>
              <a:t>láskavým slovom strach zažehnáš</a:t>
            </a:r>
            <a:br>
              <a:rPr sz="43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a v boji viery víťazstvo dáš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k tebe len ísť vždy sm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eď vôkol vládne pýcha a kla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tebe sa, Pane, rád odovzdá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iež hlas tvoj počuj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o sveta strastí, úzkostí, chmár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 tebe len ísť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rieť tvoju tvár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Spasiteľ môj si, Boh môj a Kráľ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vrúcne ťa milujem.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6:45:48Z</dcterms:modified>
  <cp:revision>20</cp:revision>
  <dc:subject/>
  <dc:title>Je veľký náš Pán, on slávy je Kráľ Nech do všetkých strán  spev vrúcnych znie chvál.</dc:title>
</cp:coreProperties>
</file>